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832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076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588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832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076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95400" y="241200"/>
            <a:ext cx="709128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1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2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3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4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5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6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pic>
        <p:nvPicPr>
          <p:cNvPr id="2" name="Picture 33" descr="app"/>
          <p:cNvPicPr/>
          <p:nvPr/>
        </p:nvPicPr>
        <p:blipFill>
          <a:blip r:embed="rId2"/>
          <a:stretch/>
        </p:blipFill>
        <p:spPr>
          <a:xfrm>
            <a:off x="-4680" y="-9360"/>
            <a:ext cx="9148680" cy="977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4" descr="app"/>
          <p:cNvPicPr/>
          <p:nvPr/>
        </p:nvPicPr>
        <p:blipFill>
          <a:blip r:embed="rId3"/>
          <a:stretch/>
        </p:blipFill>
        <p:spPr>
          <a:xfrm>
            <a:off x="-4680" y="992160"/>
            <a:ext cx="9148680" cy="9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7" descr="logo_hidrografico_br_rgb"/>
          <p:cNvPicPr/>
          <p:nvPr/>
        </p:nvPicPr>
        <p:blipFill>
          <a:blip r:embed="rId4"/>
          <a:stretch/>
        </p:blipFill>
        <p:spPr>
          <a:xfrm>
            <a:off x="136440" y="93600"/>
            <a:ext cx="1727280" cy="773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8" descr="app"/>
          <p:cNvPicPr/>
          <p:nvPr/>
        </p:nvPicPr>
        <p:blipFill>
          <a:blip r:embed="rId5"/>
          <a:stretch/>
        </p:blipFill>
        <p:spPr>
          <a:xfrm>
            <a:off x="-9360" y="6581880"/>
            <a:ext cx="7481880" cy="79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" name="Picture 39" descr=""/>
          <p:cNvPicPr/>
          <p:nvPr/>
        </p:nvPicPr>
        <p:blipFill>
          <a:blip r:embed="rId6"/>
          <a:stretch/>
        </p:blipFill>
        <p:spPr>
          <a:xfrm>
            <a:off x="7480440" y="6232680"/>
            <a:ext cx="12888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IALA Questionnaire 2011 (M2)</a:t>
            </a:r>
            <a:br>
              <a:rPr sz="2800"/>
            </a:b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[2010 data]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789360"/>
            <a:ext cx="856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Victor Conceição – Hydrographic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Jorge Teles – Lighthouses Authority (P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santos.teles@marinha.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Arlindo Santos – Lighthouse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Rectangle 3"/>
          <p:cNvGraphicFramePr/>
          <p:nvPr/>
        </p:nvGraphicFramePr>
        <p:xfrm>
          <a:off x="0" y="1263600"/>
          <a:ext cx="9144000" cy="49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3600"/>
                    <a:ext cx="914400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loating smaller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24040" y="1787400"/>
            <a:ext cx="7707240" cy="1007280"/>
            <a:chOff x="824040" y="1787400"/>
            <a:chExt cx="7707240" cy="1007280"/>
          </a:xfrm>
        </p:grpSpPr>
        <p:grpSp>
          <p:nvGrpSpPr>
            <p:cNvPr id="94" name=""/>
            <p:cNvGrpSpPr/>
            <p:nvPr/>
          </p:nvGrpSpPr>
          <p:grpSpPr>
            <a:xfrm>
              <a:off x="824040" y="1787400"/>
              <a:ext cx="7460280" cy="1007280"/>
              <a:chOff x="824040" y="1787400"/>
              <a:chExt cx="7460280" cy="1007280"/>
            </a:xfrm>
          </p:grpSpPr>
          <p:sp>
            <p:nvSpPr>
              <p:cNvPr id="95" name=""/>
              <p:cNvSpPr/>
              <p:nvPr/>
            </p:nvSpPr>
            <p:spPr>
              <a:xfrm>
                <a:off x="824040" y="2292120"/>
                <a:ext cx="725580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7716960" y="1787400"/>
                <a:ext cx="567360" cy="1007280"/>
                <a:chOff x="7716960" y="1787400"/>
                <a:chExt cx="567360" cy="1007280"/>
              </a:xfrm>
            </p:grpSpPr>
            <p:sp>
              <p:nvSpPr>
                <p:cNvPr id="97" name=""/>
                <p:cNvSpPr/>
                <p:nvPr/>
              </p:nvSpPr>
              <p:spPr>
                <a:xfrm rot="16200000">
                  <a:off x="7574040" y="1930320"/>
                  <a:ext cx="503280" cy="21744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4360 h 217440"/>
                    <a:gd name="textAreaBottom" fmla="*/ 163080 h 21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 rot="5400000">
                  <a:off x="7574040" y="2433960"/>
                  <a:ext cx="502920" cy="21744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4360 h 217440"/>
                    <a:gd name="textAreaBottom" fmla="*/ 163080 h 21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936200" y="193212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935840" y="246852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"/>
            <p:cNvSpPr/>
            <p:nvPr/>
          </p:nvSpPr>
          <p:spPr>
            <a:xfrm rot="10800000">
              <a:off x="8287560" y="202068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44000" cy="52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4960" y="5877000"/>
            <a:ext cx="31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gis.hidrografico.pt/ial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loating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 Floating major 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5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4040" indent="-42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loating major un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4040" indent="-42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loating medium 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1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6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4040" indent="-42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4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loating medium 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7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6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4040" indent="-42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loating smaller 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67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4040" indent="-42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5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loating smaller 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538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4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4040" indent="-42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loating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2" name="Rectangle 3"/>
          <p:cNvGraphicFramePr/>
          <p:nvPr/>
        </p:nvGraphicFramePr>
        <p:xfrm>
          <a:off x="0" y="1400040"/>
          <a:ext cx="9540720" cy="46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0040"/>
                    <a:ext cx="954072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loating Major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 Floating major 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loating major un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Rectangle 3"/>
          <p:cNvGraphicFramePr/>
          <p:nvPr/>
        </p:nvGraphicFramePr>
        <p:xfrm>
          <a:off x="0" y="2637000"/>
          <a:ext cx="1018872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1018872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Rectangle 3"/>
          <p:cNvGraphicFramePr/>
          <p:nvPr/>
        </p:nvGraphicFramePr>
        <p:xfrm>
          <a:off x="0" y="1330200"/>
          <a:ext cx="914400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0200"/>
                    <a:ext cx="914400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loating Major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40" y="1924200"/>
            <a:ext cx="7479720" cy="1007280"/>
            <a:chOff x="539640" y="1924200"/>
            <a:chExt cx="7479720" cy="1007280"/>
          </a:xfrm>
        </p:grpSpPr>
        <p:grpSp>
          <p:nvGrpSpPr>
            <p:cNvPr id="62" name=""/>
            <p:cNvGrpSpPr/>
            <p:nvPr/>
          </p:nvGrpSpPr>
          <p:grpSpPr>
            <a:xfrm>
              <a:off x="539640" y="1924200"/>
              <a:ext cx="7234560" cy="1007280"/>
              <a:chOff x="539640" y="1924200"/>
              <a:chExt cx="7234560" cy="1007280"/>
            </a:xfrm>
          </p:grpSpPr>
          <p:sp>
            <p:nvSpPr>
              <p:cNvPr id="63" name=""/>
              <p:cNvSpPr/>
              <p:nvPr/>
            </p:nvSpPr>
            <p:spPr>
              <a:xfrm>
                <a:off x="539640" y="2428920"/>
                <a:ext cx="703656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24120" y="1924200"/>
                <a:ext cx="550080" cy="1007280"/>
                <a:chOff x="7224120" y="1924200"/>
                <a:chExt cx="550080" cy="1007280"/>
              </a:xfrm>
            </p:grpSpPr>
            <p:sp>
              <p:nvSpPr>
                <p:cNvPr id="65" name=""/>
                <p:cNvSpPr/>
                <p:nvPr/>
              </p:nvSpPr>
              <p:spPr>
                <a:xfrm rot="16200000">
                  <a:off x="7077960" y="2070360"/>
                  <a:ext cx="503280" cy="21096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2560 h 210960"/>
                    <a:gd name="textAreaBottom" fmla="*/ 158400 h 210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 rot="5400000">
                  <a:off x="7077960" y="2574000"/>
                  <a:ext cx="502920" cy="21096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2560 h 210960"/>
                    <a:gd name="textAreaBottom" fmla="*/ 158400 h 210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426080" y="206892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425720" y="260532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" name=""/>
            <p:cNvSpPr/>
            <p:nvPr/>
          </p:nvSpPr>
          <p:spPr>
            <a:xfrm rot="10800000">
              <a:off x="7775640" y="215748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loating medium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 Floating medium 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67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loating medium un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0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Rectangle 3"/>
          <p:cNvGraphicFramePr/>
          <p:nvPr/>
        </p:nvGraphicFramePr>
        <p:xfrm>
          <a:off x="-108000" y="2708280"/>
          <a:ext cx="9252000" cy="37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2708280"/>
                    <a:ext cx="925200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loating medium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1565280"/>
          <a:ext cx="9144000" cy="434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65280"/>
                    <a:ext cx="914400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679320" y="2022480"/>
            <a:ext cx="7707600" cy="1007280"/>
            <a:chOff x="679320" y="2022480"/>
            <a:chExt cx="7707600" cy="1007280"/>
          </a:xfrm>
        </p:grpSpPr>
        <p:grpSp>
          <p:nvGrpSpPr>
            <p:cNvPr id="78" name=""/>
            <p:cNvGrpSpPr/>
            <p:nvPr/>
          </p:nvGrpSpPr>
          <p:grpSpPr>
            <a:xfrm>
              <a:off x="679320" y="2022480"/>
              <a:ext cx="7460280" cy="1007280"/>
              <a:chOff x="679320" y="2022480"/>
              <a:chExt cx="7460280" cy="1007280"/>
            </a:xfrm>
          </p:grpSpPr>
          <p:sp>
            <p:nvSpPr>
              <p:cNvPr id="79" name=""/>
              <p:cNvSpPr/>
              <p:nvPr/>
            </p:nvSpPr>
            <p:spPr>
              <a:xfrm>
                <a:off x="679320" y="2527200"/>
                <a:ext cx="725616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7572240" y="2022480"/>
                <a:ext cx="567360" cy="1007280"/>
                <a:chOff x="7572240" y="2022480"/>
                <a:chExt cx="567360" cy="1007280"/>
              </a:xfrm>
            </p:grpSpPr>
            <p:sp>
              <p:nvSpPr>
                <p:cNvPr id="81" name=""/>
                <p:cNvSpPr/>
                <p:nvPr/>
              </p:nvSpPr>
              <p:spPr>
                <a:xfrm rot="16200000">
                  <a:off x="7429320" y="2165400"/>
                  <a:ext cx="503280" cy="21744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4360 h 217440"/>
                    <a:gd name="textAreaBottom" fmla="*/ 163080 h 21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 rot="5400000">
                  <a:off x="7429320" y="2669040"/>
                  <a:ext cx="502920" cy="21744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4360 h 217440"/>
                    <a:gd name="textAreaBottom" fmla="*/ 163080 h 21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791480" y="216720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791120" y="270360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" name=""/>
            <p:cNvSpPr/>
            <p:nvPr/>
          </p:nvSpPr>
          <p:spPr>
            <a:xfrm rot="10800000">
              <a:off x="8143200" y="225576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loating smaller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 Floating smaller 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63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loating smaller un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28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Rectangle 3"/>
          <p:cNvGraphicFramePr/>
          <p:nvPr/>
        </p:nvGraphicFramePr>
        <p:xfrm>
          <a:off x="0" y="2708280"/>
          <a:ext cx="914400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9144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27:50Z</dcterms:created>
  <dc:creator>field</dc:creator>
  <dc:description/>
  <dc:language>en-US</dc:language>
  <cp:lastModifiedBy>Divisão Navegação - NS</cp:lastModifiedBy>
  <dcterms:modified xsi:type="dcterms:W3CDTF">2012-05-16T00:35:26Z</dcterms:modified>
  <cp:revision>36</cp:revision>
  <dc:subject/>
  <dc:title>Slide 1</dc:title>
</cp:coreProperties>
</file>